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3BA-EDDC-4B1E-971F-049A6D0D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112-17BA-4FD0-AAF3-A906D3B7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45F-3ECB-4BF3-B14C-01C6B4C6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422E-A9AA-4B88-BBCB-E33C1879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B07D-3DDC-4711-9863-83C18B66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6665-9C5A-4628-8539-773B97C5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7C82-22CA-4AE8-A15F-6BE605BC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4732-D4A5-46DD-9664-43EA915C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2906-5164-416E-AC46-FFE95BC0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6D0E-62DB-4DF7-A56E-0A5F0467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943C-46F7-42C1-B978-F260AF0A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5BC6-C3D2-432E-B362-E05D228F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626C-1052-4243-B6C0-7B0A3B5D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ADA7-A16B-4C3B-84BD-D25DCB62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9685-5B02-44A0-BC82-ADEF4331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DE08-2448-4551-8290-4F80A745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033F-D3DE-4C08-BCDC-88E33E5E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61EE-BAA2-4691-9F98-F6B05A33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E00D-D07E-4B06-81D4-35F2608E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6E2E-7202-4B24-B79D-0072E2C7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7480-1DA2-44F3-ACD7-08D0D86D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EEA-B828-4128-AC85-6625B571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F06-F7FA-4BEC-A777-F9A638E1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734-C9E3-485D-BC8D-D22D8B58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19B5-C0F1-45A1-82AB-D41FD594C1B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7680" y="198108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2F24-395B-46A8-8F12-74B9EDE3FC4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8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Play Ball!!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15760" y="3733560"/>
            <a:ext cx="5715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By: Janyssa Phillips</a:t>
            </a:r>
            <a:endParaRPr b="0" lang="en-US" sz="24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90920" y="9907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867280" y="4038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Problem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What effect does gender have on how far you can throw a baseball?</a:t>
            </a:r>
            <a:endParaRPr b="0" lang="en-US" sz="24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14079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Hypothesis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I predict that both boys and girls will have about the same distance.</a:t>
            </a:r>
            <a:endParaRPr b="0" lang="en-US" sz="24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Materials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I will need two baseballs, 4 7</a:t>
            </a:r>
            <a:r>
              <a:rPr b="0" lang="en-US" sz="3200" spc="-1" strike="noStrike" baseline="30000">
                <a:solidFill>
                  <a:srgbClr val="ff8000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 grade girls and boys(4 for each), a tape measure, two teachers (boy and girl), and four extra people to help.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Procedure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Make a line outside, boys and girls, have two helpers at each line. Then, have one of the helpers have a measuring and one recording the data. Next, have each person throw a ball, measure and record the data with each person. The send everyone back to class. 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Results For Boys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Name     Sports       Distance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Gus     track, basketball, football                                                       140 ft. 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Dylan  football, track                                                           157ft.4in. 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Chase  football, track, golf                                                  137ft.5in.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Jacob  cross-country, track                                                  67ft.4in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.                    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81480" y="2819520"/>
            <a:ext cx="1600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Results For Girls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Name        Sports     Distance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Jessica  volleyball, track                                                         76ft.6in.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Destiny, volleyball, basketball, softball, and track                   107ft.4in.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Daltyn   volleyball, basketball                                                   84ft.10in.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Mrs.Riffel volleyball, basketball, and track                               95ft.8in.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553080" y="175248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I think that it does not matter which gender you are. It just depended on which sports you were involved in, and if you have to throw a lot. So, not does not matter what gender you are but if you like to play sports.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90920" y="762120"/>
            <a:ext cx="60958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nclu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Acknowledgements 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I want to thank Mrs. Riffel for letting me do this project. I also want to thank anyone who let me borrow some stuff, like a baseball (Thank you Mr. Bauerle.) I also want to thank anyone involved in my project, and being so corruptive. I have a special thanks to Kandra Pattison for writing all of my results down for me.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USD376</cp:lastModifiedBy>
  <cp:lastPrinted>2010-04-19T19:48:04Z</cp:lastPrinted>
  <dcterms:modified xsi:type="dcterms:W3CDTF">2010-04-30T14:29:1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